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C013-3B5C-4366-9510-A5ED22F21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516-BF88-4453-991B-6D722C068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4F4-FD55-4CF2-A504-86AC6FB8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F23-109D-431C-A8E0-00A99983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CD6-6DE0-4B0C-BD80-8EC225B6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22C-D3FA-46AB-8F52-7C815A3B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EB3-E249-4E67-99BD-C7E7B527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1BD-C765-4732-8F5E-1CDCF16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122-CBE2-462D-83E6-097C043C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0DA-C002-40F3-A173-57CAF5A6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793-9903-4736-9957-FB4AE84A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AB4-E969-4B2C-8AB8-FB85D37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CEA-0D97-4267-B056-DB37AF0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C94-FBCF-4077-9463-7D0C88F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A3AB-54F6-48F7-91E1-4C51179AEB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11D1-8FD5-499F-A56E-93BC1DE7F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марта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38D4-572E-48A3-A3D3-EBA17A78F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рта 2025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5-03-04T09:08:37Z</dcterms:modified>
  <cp:revision>178</cp:revision>
  <dc:subject/>
  <dc:title>Презентация PowerPoint</dc:title>
</cp:coreProperties>
</file>